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0B8-3F6C-4272-8073-DC838780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623-9D0C-4864-9BCA-4176D6EA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27-96A2-460A-BCB7-8DC8FB5D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14C-789D-49DC-9155-02CEDF30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F47F-5D51-45A7-B65A-D56A13C5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071-0772-47C9-9F39-AA74FAF5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994-163A-443F-B1AB-EA4123E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B2CD-7AC4-47B0-AEC1-EE88609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BBC-23CC-4AD5-8293-613E866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FD0C-BD2D-4FEE-8BA0-CCC281A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EB8-8E24-4C7B-9957-9ADD1E9E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5C3-8329-4660-9ECA-9FB0765E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2BD7-4D0E-4088-89F5-22774A9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02FD-EE1A-4713-8850-7ADFD93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9C94-667B-431C-8E0C-7987F0E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AB0-98B0-4300-BE41-C2BE380D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0604-D043-45C2-8C8E-1290EA8F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069-4D59-4FCB-8675-E8F4A769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3F7-B3F2-493F-A4D7-637D6B2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563-85A0-47B0-9635-87CF8A9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2F6-7D86-492D-AD75-EF4A05E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4BA-9E0E-488A-BAA5-77B0E87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640-6729-4429-8692-ABD7B24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A97-B6AE-4227-AFD2-3CD080B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A4A8-8FC7-432A-8284-05697F68A6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176-A9D7-4720-911E-A44D172F5A5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78840"/>
            <a:ext cx="88394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c85e"/>
                </a:solidFill>
                <a:latin typeface="Arial"/>
              </a:rPr>
              <a:t>Me llamo ______ Clase 7 IM</a:t>
            </a:r>
            <a:br>
              <a:rPr sz="4000"/>
            </a:br>
            <a:r>
              <a:rPr b="0" lang="en-US" sz="4000" spc="-1" strike="noStrike">
                <a:solidFill>
                  <a:srgbClr val="eec85e"/>
                </a:solidFill>
                <a:latin typeface="Arial"/>
              </a:rPr>
              <a:t>La fecha es el 13 de octubre del 201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Propósito # 9: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¿Qué haces en el aeropuert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Ejercicio 2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p. 82</a:t>
            </a: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l nombre de la línea á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l numero del vuel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l destino del vuel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l aeropuerto de sali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La hora de embarq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La fecha del vuelo, el día que sa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Juego 3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p. 83 (1-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un compañero, completa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Ejercicio 4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p. 83. Make sure that you WRITE what you see, give the family a name, give people name etc. Make sure that you use the vocabulary that we learned yester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G YOUR PROGRESS REPORT &amp; EXAM # 1 SIGN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KBOOK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leta p. 3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26:03Z</dcterms:created>
  <dc:creator>Helen Zumaeta</dc:creator>
  <dc:description/>
  <dc:language>en-US</dc:language>
  <cp:lastModifiedBy>Helen Zumaeta</cp:lastModifiedBy>
  <dcterms:modified xsi:type="dcterms:W3CDTF">2011-10-12T20:16:57Z</dcterms:modified>
  <cp:revision>2</cp:revision>
  <dc:subject/>
  <dc:title>Me llamo ______ Clase 7 IM La fecha es el 13 de octubre del 2011</dc:title>
</cp:coreProperties>
</file>